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9A6-F3A9-42E6-9ECF-62BC5F71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65D-2F6B-41BE-83A5-8F2E89E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991-C6A9-4A98-AFB0-FFC51AE0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29A-EDED-488D-923B-2B7221B6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251-4C7D-40FF-8E03-C88569C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FDE-9FAF-403C-B6A0-04C597C7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DAD-69FB-4606-972E-0E2CB13D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247-3160-43EA-92F9-C6E0E44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076-59A4-4D2E-8E00-4EB4CD5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5DB-5885-4A8D-A19F-DC085BB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764-8BCC-4DE8-B706-D05FC17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480-6DC9-448B-9157-5BF3F97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4771_03_2002_Volpi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ologies for not using open sourc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7854-BBB3-4402-B5E3-D9E91809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 MIB Review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pplicability to GMPLS MIB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Nadea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nadeau@cisco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 Far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farrel@movaz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rom MPL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 Final Changes for MPLS MIBs requested by MIB Do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Interaction between MIB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-TC, MPLS-LSR, MPLS-LDP, MPLS-TE, MPLS-FTN, TE-TE, LINK-BU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S MIB Overview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interaction/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ACTION Items for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LS MIB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Detail of Changes at IETF ID Tracke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datatracker.ietf.org/public/pidtracker.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inor Changes to base MPLS M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f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in Nature (split REFS, IPR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ew Significant Changes to base 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 to work fine with GMPLS MI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/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to handle all GMPLS function in base GMPLS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conceived as extensions/aug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as getting messy so we went for “v2” M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long while we had fou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PLS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revised our approach to us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 for a long time by progress on MPLS MIBs, but will move forward as soon as MPLS MIBs are updated and moved to IESG for approval (very so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C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TE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LSR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Issue: How do we represent lab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G.T.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labels may be concate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esirable to expose the contents of the label (e.g. SONET/SDH label fiel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the other MIB tables (e.g. LSR) reference labels through a type identifier and an index/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ype is one, label is in place (note: zero better for b/w compat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ndex points into Label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roposed Approach from MIB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ype field {packet/non-packet} + OctetString Index into label table wherever labels are refere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current MPLS labels to be represented in-line in OctetString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PLS “long” labels can be found in a table of Octet Strings that facilitate their potentially long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ssues an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s that match protocol fields will be managed by 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should not be media-specific tables for n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extensions for Sonet/SDH Sender T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MPLS features: Notify recipients, administrative statuses control (NOT MIB row AdminStatus!), Hello restart options, interface Id HOP/Error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ial/compilation/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/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update MPLS MIBs by 12/15  based on review Comments on latest MIBs. Resolution of any issues on emai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MPLS Working Group “LAST, LAST, LAST Call” at tha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PLS MIBs updated thereafter, and certainly by March IETF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on GMPLS Management Overview document for March IETF meeting (have been waiting for MPLS MIBs to be sorted 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27:44Z</dcterms:created>
  <dc:creator>jcucchiara</dc:creator>
  <dc:description/>
  <dc:language>en-US</dc:language>
  <cp:lastModifiedBy>rbonica</cp:lastModifiedBy>
  <dcterms:modified xsi:type="dcterms:W3CDTF">2002-11-21T13:58:20Z</dcterms:modified>
  <cp:revision>14</cp:revision>
  <dc:subject/>
  <dc:title>MPLS  MIB Review Summary </dc:title>
</cp:coreProperties>
</file>